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DDD4-CB90-4C7F-995B-2B4B6A80B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new typeface (felix), make larger.  Give boxes som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B5ED-EA51-4E73-BBC9-0B8BBE826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– note we have rep in subheads, in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3003-0B27-4A80-9765-C3F0E9ED2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align everything – then right align the top 2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café – right align top – make it book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3176-7DA4-4B0A-8A29-77DEF9F8E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afé – bookman for top, bradley hand for bottom, add line, add space, right alig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4C80-94B8-444E-9634-6AD434D53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C91-D01A-4A03-A68D-400FA2EC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6E0-8FFB-414B-8A31-3C640DE2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593-9AF0-4898-A45C-53F9827C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853-D57B-4868-A38E-C4F85282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6063-A0FD-4510-9F2A-B793DDF9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E9C7-6369-4068-A174-5CFD5FDD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870F-0428-4FFB-A924-58A1E981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02CE-1B51-4FA4-AF1F-7A049552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05CD-33F5-45B0-BC9B-E368AB7F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012A-9E84-4218-880E-E0549C3A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0965-9FD3-4F5C-87FA-21C2A5B7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556-2BC3-430C-9F05-231F96DF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57E7-AFF6-40F1-A99C-E8A32340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612B-CE32-411E-A268-5BDDE75D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1F3F-6E24-4FF3-9C5F-1E9DF59F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4E62-5703-42F5-AC0A-C188FE03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AF40-E635-48D3-8868-FE3B7F56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02BC-96F0-4B60-889E-C1CFA2C3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3C98-DDC2-4DE1-A4A7-330CB9BA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E8E0-EE5F-4BBF-90B5-1C93D98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3CC5-3A33-46F5-B26C-586561E3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97F6D-9B7C-4AC9-89A9-B74C38AB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EAC-A026-46D2-B85F-4105EE50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BFB6-AF60-48D6-89BD-02977FDE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F22E-38CA-4533-8418-4BDE2D8F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53DF2-A65E-4D17-9879-BB95D623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E1AF-E379-48CF-8C26-B3EECB61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76B1-E4A4-4DA7-999C-F9E7D4C5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F646-E4A7-4DAE-AC33-A0D54B9F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3E2A-06DC-4390-8F7D-D7A19F35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85C9-91E4-4175-B676-6704DD6A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B42B-0489-4EE9-B0CA-BBE18FB8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0D36-1D22-4218-AB29-34DE0479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F7C-06F0-41F8-A8C6-A3A5B494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20313-1676-4FB2-8DCF-268B5567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8B3A-3E8F-4DDA-B3D7-DDBEE674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A68C-8242-4522-9CF2-153C1F95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173E-19CF-4B75-8BAF-1D54CB96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E421-8725-48D5-828B-9EDE734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1BC97-1E7D-4666-B4CA-6171E06F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C02A3-D495-4256-979E-B44AA5C3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C12C-3A09-4C9D-8D76-D5DE5BB0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47105-1C9F-4547-80B9-CA729006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8504A-49F1-4B04-BA52-5ACFAFC8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264-D8DC-4959-AE28-85970FC5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2B6AC-204E-4F0B-8ECD-3B3924E0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786D3-B1E1-4BDB-8B86-5A499992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02364-D088-47AE-BA81-D0DA6576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32156-5F74-4271-A8F8-06490A34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F6D34-15BA-41A4-86F1-9DBE9097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D933-64A1-4787-ACCD-AA46DCEC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35203-A948-440B-BE40-65C7524D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32CD-5B22-4025-9CB3-F2EC027D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176A7-0D3D-413C-94E2-88C061BB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3FC9-3557-4B07-942A-4FEE6885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5D1-9EC6-4E06-B1FA-F2FDC666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A308E-4DCC-40E0-8BCD-9FF4C87C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38347-0AD5-41CB-8FEE-57C11B51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CCBC-459F-460C-BF72-C4344C3F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4196F-C6C5-46EB-970D-8D8CDEA7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8128-3878-42A0-A17C-D6A88951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7A644-8CF2-475E-A59F-98178906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3F7F6-D6A1-4C55-9E7C-95F65467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D0B42-C7A6-4A09-9AEB-145F47D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A5BEB-A45E-4E28-8617-A96CC3DD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2CDE-09EC-458F-AA6A-1FD95A75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FFA-A600-4825-9726-89A62F03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813E1-499C-4865-B3AE-F90D39E4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1B02-57FF-4C0F-BB5C-007357BE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4A950-F1CD-40E4-8F6E-F9BDECE8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A2CB7-0D1C-4846-9C77-2ABA77D6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7020D-C73C-451E-8286-09AA7062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7175-C803-45B6-BA72-388F6F29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AC21-BBA1-4879-B59D-D51F153B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5A073-0C94-4557-93E7-04475DCC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54191-7715-4D0E-998B-E3B79005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210AC-3863-494A-8DA5-8EAC8B3D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6A5-24DC-4AA8-B136-BF4698A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7104A-7E61-47D2-A3BD-24729F8B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8798A-D760-48E1-A53D-4459A29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3DCCE-EF54-439E-8AD7-172AE309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E57E0-9E09-465F-9E19-5978C4E5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C8EFB-B2DE-431C-82E2-9AF04A23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F34-AFFE-4A0C-AC2F-558441C9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3992-1F0A-4B28-B6F4-1DB11CE8527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618-6106-4ADB-BBFF-6993E9C0FF5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04C7-9E3A-466D-A1E3-81FC9A5736F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8C64-965F-46DC-92F7-B655199A81E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7EEB-C517-437D-821E-5336F1C1DBC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6DC3-EE96-4893-A097-4D4CD28F884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AC3D-5C58-4F84-870E-6FF2782F08D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phicstandards.colostate.edu/files/pdf/csu-toolbox.pdf" TargetMode="External"/><Relationship Id="rId2" Type="http://schemas.openxmlformats.org/officeDocument/2006/relationships/hyperlink" Target="http://graphicstandards.colostate.edu/files/pdf/csu-toolbox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Effective Poster Design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The Non-Designer’s Design Book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by Robin William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Dec 2010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SU places certain restrictions on fonts, colors, spacing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ee the Communicator’s Toolbox for detail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graphicstandards.colostate.edu/files/pdf/csu-toolbox.pdf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Fo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inion (serif) and Swiss 721 (sans serif) recommended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You may use Garamond, Helvetica, and Ariel to replace if you don’t have those font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The “accent font” loophol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21160" indent="-2192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For titles, headers and sub-heads you can be creativ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821160" indent="-2192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Use this loophole judiciously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 Cave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The Non-Designer’s Design Book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Lots of pictur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Brochures, business cards, websites, poster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ows before and after examples of applying specific principl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4 main principles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Contrast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epeti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lignment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Proxim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RAP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f two items are not exactly the same, make them different. Really different.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Make strong choice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What to contrast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iz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l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Font typefac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Vertical vs. horizonta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Background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ontras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Repeat some aspect of design throughout the piece.”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Unify the design with one repeated aspect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gain, make strong choic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What to repeat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Design elements (logos, bullet points, shapes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Header and sub-header styles (size, thickness, color, style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Vertical and horizontal lin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Colors and textur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pacing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800"/>
            <a:ext cx="74088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Break away from a centered alignment”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Doesn’t mean NEVER center alig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E.g. – Center text in a box that is off center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What to align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Edge of text (left, right, center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Where the edge of the text is on the pag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3e87"/>
                </a:solidFill>
                <a:latin typeface="Candara"/>
              </a:rPr>
              <a:t>E.g. – You can right align your text and then place that right edge on the left portion of the page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lignmen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Group related items together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Don’t be afraid of empty space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Use space to create relationship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Physical closeness implies a relationship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roximit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9:49:14Z</dcterms:created>
  <dc:creator>Jeff Wood</dc:creator>
  <dc:description/>
  <dc:language>en-US</dc:language>
  <cp:lastModifiedBy>Jeff Wood</cp:lastModifiedBy>
  <dcterms:modified xsi:type="dcterms:W3CDTF">2010-12-16T16:39:13Z</dcterms:modified>
  <cp:revision>5</cp:revision>
  <dc:subject/>
  <dc:title>Creating Effective Posters: The Non-Designer’s Design Book</dc:title>
</cp:coreProperties>
</file>